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8F07-6030-4A00-9FD7-B30AEFD19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EED9-E64F-42E2-9688-865D9450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F588-0D78-43E5-93C0-1395AEBC2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05CC-4E45-4C42-91E7-4E7FF3414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9A2A-D472-4D91-A973-9A0FBA35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3505-BAFF-430B-A8D9-BA5FCC51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E969-C0B5-4A51-92A7-21C0009F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91A1-B910-4356-ADE4-8C4E7EB1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5E95-32ED-4FAE-B484-078893CA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9FF9-76C0-4437-A6F4-4F0B17AA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E072-58CB-4385-9F79-EAF240BC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6BE3-34AE-40B8-BCB0-E9B225BA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0289-F9A2-43A2-9DB7-BAF48E863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Божият Син да те oбгърне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в Своя дух и в любовта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 и сърцето ти изпълни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с радостта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53272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32000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5809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Предай Му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 всяка своя болка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 и Духът Му, гълъб свят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нежно твоето сърце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ще изцел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1405080" y="2361960"/>
            <a:ext cx="7056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Исус, </a:t>
            </a: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о, </a:t>
            </a: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Исус, </a:t>
            </a:r>
            <a:br>
              <a:rPr sz="5400"/>
            </a:b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изпълни ни Ти</a:t>
            </a: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Исус,</a:t>
            </a: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 о, </a:t>
            </a: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Исус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изпълни ни Ти</a:t>
            </a: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3000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252360" y="1341360"/>
            <a:ext cx="9396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Запейте тази песен с радост</a:t>
            </a: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и ликуващ</a:t>
            </a: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и</a:t>
            </a: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 сърц</a:t>
            </a: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а</a:t>
            </a: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 </a:t>
            </a:r>
            <a:br>
              <a:rPr sz="5400"/>
            </a:b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в свят поклон</a:t>
            </a: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 ръце </a:t>
            </a:r>
            <a:br>
              <a:rPr sz="5400"/>
            </a:b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вдигнете </a:t>
            </a: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към </a:t>
            </a: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Христа</a:t>
            </a: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336528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Сълзите горки</a:t>
            </a: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 </a:t>
            </a:r>
            <a:br>
              <a:rPr sz="5400"/>
            </a:b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дайте Нему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вс</a:t>
            </a: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я</a:t>
            </a: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к</a:t>
            </a: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а</a:t>
            </a: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болка и тъга</a:t>
            </a: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, </a:t>
            </a:r>
            <a:br>
              <a:rPr sz="5400"/>
            </a:b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и тръгнете в нов живот</a:t>
            </a: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 </a:t>
            </a:r>
            <a:br>
              <a:rPr sz="5400"/>
            </a:b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чрез Господа</a:t>
            </a: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1405080" y="2349000"/>
            <a:ext cx="7056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Исус, </a:t>
            </a: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о, </a:t>
            </a: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Исус, </a:t>
            </a:r>
            <a:br>
              <a:rPr sz="5400"/>
            </a:b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изпълни ни Ти</a:t>
            </a: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Исус,</a:t>
            </a: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 о, </a:t>
            </a: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Исус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изпълни ни Ти</a:t>
            </a: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!</a:t>
            </a:r>
            <a:r>
              <a:rPr b="0" lang="en-US" sz="5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3000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Божият Син да те oбгърне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в Своя дух и в любовта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 и сърцето ти изпълни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с радостта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35809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Предай Му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 всяка своя </a:t>
            </a: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грижа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 и Духът Му, гълъб свят,</a:t>
            </a:r>
            <a:br>
              <a:rPr sz="5400"/>
            </a:b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/</a:t>
            </a: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ще докосне, обнови </a:t>
            </a:r>
            <a:br>
              <a:rPr sz="5400"/>
            </a:b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живота ти</a:t>
            </a: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.</a:t>
            </a: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 /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5000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8T04:13:31Z</dcterms:created>
  <dc:creator>TrifonTrifonow</dc:creator>
  <dc:description/>
  <dc:language>en-US</dc:language>
  <cp:lastModifiedBy>TrifonTrifonow</cp:lastModifiedBy>
  <dcterms:modified xsi:type="dcterms:W3CDTF">2005-12-28T04:18:09Z</dcterms:modified>
  <cp:revision>1</cp:revision>
  <dc:subject/>
  <dc:title>Божият Син да те oбгърне  в Своя дух и в любовта  и сърцето ти изпълни  с радостта. </dc:title>
</cp:coreProperties>
</file>